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C2270-5F33-4897-9E6A-65B8A56D2F2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FB87-AE7F-4674-8FD4-787DBC8A7FF9}"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E258-7288-4EB4-AAC8-4851FAC42EF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171A-E226-4AC1-BCBE-97AB28DB0A00}"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D57F-2402-4BAD-94C9-E89940D75FF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DF81-8288-43D1-A810-8B954EBAB3C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33F8B-E247-4009-8C40-BF209E3A9B6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842F-770C-44A8-A924-2D3D6248BB9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AE6F-1AC0-4738-94A8-AD0F18D1076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8399-7436-485F-A475-7A1B338910C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865B3-BE90-4D41-B8EB-48C592E43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DC490-C1EC-4D68-B20D-E4AAD8083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5FF08-5A99-40ED-B186-025E4FF04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311E5-09C4-4E05-834F-F85A17BCC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A9993-9124-4B1C-A886-698A60958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4B973-6469-4411-B02B-35ABC8381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DFD21-E379-4571-8D9B-AA4513E7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6DF6-7FFB-4FFE-ACC0-DFA15E407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987DF-7B5A-425A-80A7-8D80069E7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7AF75-C07B-4A66-97F6-38D3959B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991A3-F481-42A8-A12B-51D23F7AA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EC079-5941-49E4-815E-DE8CA8071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CF68-EE3B-4E96-8B3C-904F8C42580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12-09T18:56:48Z</dcterms:modified>
  <cp:revision>26</cp:revision>
  <dc:subject/>
  <dc:title>Countries</dc:title>
</cp:coreProperties>
</file>